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506A-9121-455C-8F44-A4398C73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0314-9B69-4805-96C7-A4A97F1B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B414-C21C-4C27-80CF-10E58842C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498F-720D-45A5-BCAB-17BB65B5D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3F18-A619-4970-971D-8E93D7E7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916B-8C06-48E2-8FA8-19D1137E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9CC7-FB0F-4C17-A754-17F9188B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EB4F-1F43-426C-8BBD-2749EA6D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461E-F307-4816-BB95-F0090B24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BC16-351D-4AAC-945B-AEB8CECA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CEC2-7052-43D5-8BC1-BFADB4C0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A5C9-CEA2-460F-B52E-6B9F6A51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46EC-29BC-4F56-A671-454E561D8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 4: Cell Division &amp; Hered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Part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Ch. 12 – The Cell Cyc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ell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601992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1 Phase – Cell grows and produces proteins, extra organell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ulated at the G1 checkpoint by proteins called cyclins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passed, cell usually continues the rest of the cyc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not passed, cell enters G0 phase. The cell essentially exits the division phase and can “try again later”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Phase – “Synthesis”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is duplicated (details in Ch. 1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int at which each single chromosome becomes a chromosome with 2 chromatids. The chromatids are identic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romatids are “linked” at their centrome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2 Phase – Cell grows and produces proteins, extra organell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ulated at the G2 checkpoint by proteins called cyclins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c regulating factor is called MP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-phase Promoting Fa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: DNA has double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mans have 46 chromosomes in each of their somatic cells. Remembering that a chromosome is a “section” of DNA and all chromosomes combined is all the DNA, answer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G1, how many chromosomes are there? Centromer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end of S, how many chromosomes are there? Chromatids? Centromer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itotic 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tosis: 5 major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h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metaph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aph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aph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loph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ytokin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indle for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ntrosomes moving towards po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oli disapp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romatin becomes condensed into chromos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ster chromatids becoming vi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Text Placeholder 2" descr=""/>
          <p:cNvPicPr/>
          <p:nvPr/>
        </p:nvPicPr>
        <p:blipFill>
          <a:blip r:embed="rId1"/>
          <a:srcRect l="32288" t="4000" r="35450" b="52013"/>
          <a:stretch/>
        </p:blipFill>
        <p:spPr>
          <a:xfrm>
            <a:off x="4648320" y="1371600"/>
            <a:ext cx="38862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meta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ar envelope disappea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romosomes more condens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indle fibers associating with kinetoch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tachment site for spindle fi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Text Placeholder 2" descr=""/>
          <p:cNvPicPr/>
          <p:nvPr/>
        </p:nvPicPr>
        <p:blipFill>
          <a:blip r:embed="rId1"/>
          <a:srcRect l="64563" t="4000" r="-625" b="52013"/>
          <a:stretch/>
        </p:blipFill>
        <p:spPr>
          <a:xfrm>
            <a:off x="4267080" y="1447920"/>
            <a:ext cx="4419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romosomes align at center (metaphase pl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indle fibers completely attached to kinetoch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Text Placeholder 2" descr=""/>
          <p:cNvPicPr/>
          <p:nvPr/>
        </p:nvPicPr>
        <p:blipFill>
          <a:blip r:embed="rId1"/>
          <a:srcRect l="0" t="58000" r="65838" b="0"/>
          <a:stretch/>
        </p:blipFill>
        <p:spPr>
          <a:xfrm>
            <a:off x="4724280" y="1523880"/>
            <a:ext cx="4114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ster chromatids are pulled apart to opposite ends of the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 elongates while chromatids mo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Text Placeholder 2" descr=""/>
          <p:cNvPicPr/>
          <p:nvPr/>
        </p:nvPicPr>
        <p:blipFill>
          <a:blip r:embed="rId1"/>
          <a:srcRect l="34175" t="58000" r="33550" b="0"/>
          <a:stretch/>
        </p:blipFill>
        <p:spPr>
          <a:xfrm>
            <a:off x="4495680" y="1523880"/>
            <a:ext cx="4114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. 12 Cell Di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divide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ganism re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air &amp; Renew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http://www.ucmp.berkeley.edu/protista/ciliata/ciliatedivis2.gif"/>
          <p:cNvPicPr/>
          <p:nvPr/>
        </p:nvPicPr>
        <p:blipFill>
          <a:blip r:embed="rId1"/>
          <a:stretch/>
        </p:blipFill>
        <p:spPr>
          <a:xfrm>
            <a:off x="5943600" y="1676520"/>
            <a:ext cx="2400480" cy="1679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http://coris.noaa.gov/glossary/radialcleavage_186.jpg"/>
          <p:cNvPicPr/>
          <p:nvPr/>
        </p:nvPicPr>
        <p:blipFill>
          <a:blip r:embed="rId2"/>
          <a:stretch/>
        </p:blipFill>
        <p:spPr>
          <a:xfrm>
            <a:off x="3276720" y="3048120"/>
            <a:ext cx="2479680" cy="1600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http://webanatomy.net/anatomy/wound_repair.jpg"/>
          <p:cNvPicPr/>
          <p:nvPr/>
        </p:nvPicPr>
        <p:blipFill>
          <a:blip r:embed="rId3">
            <a:grayscl/>
          </a:blip>
          <a:stretch/>
        </p:blipFill>
        <p:spPr>
          <a:xfrm>
            <a:off x="5334120" y="4343400"/>
            <a:ext cx="342900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lo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oli begin refor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ar envelopes form around chromos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romosomes begin to unconden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Text Placeholder 2" descr=""/>
          <p:cNvPicPr/>
          <p:nvPr/>
        </p:nvPicPr>
        <p:blipFill>
          <a:blip r:embed="rId1"/>
          <a:srcRect l="64563" t="58000" r="1275" b="0"/>
          <a:stretch/>
        </p:blipFill>
        <p:spPr>
          <a:xfrm>
            <a:off x="4419720" y="1728720"/>
            <a:ext cx="403848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tokin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447560"/>
            <a:ext cx="81532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happens with teloph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 splits along the midd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imals: Cleavage furr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nts: Cell pl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45185" r="0" b="0"/>
          <a:stretch/>
        </p:blipFill>
        <p:spPr>
          <a:xfrm>
            <a:off x="380880" y="3352680"/>
            <a:ext cx="830592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ss of Contr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cer cells: Cells that have overcome the control of the cell cyc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ide in an uncontrolled fashion. Movement can also be uncontrolled (metastasi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nign tumors: Relatively harm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lignant tumors: Usually damage other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 Cell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atic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ed by MIT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ploid (2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sets of chromos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roductive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ed by MEI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ploid (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set of chromosom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http://www.genomicseducation.ca/files/Images/information_articles/stem_cell_basics-1.gif"/>
          <p:cNvPicPr/>
          <p:nvPr/>
        </p:nvPicPr>
        <p:blipFill>
          <a:blip r:embed="rId1"/>
          <a:srcRect l="2257" t="38238" r="0" b="0"/>
          <a:stretch/>
        </p:blipFill>
        <p:spPr>
          <a:xfrm>
            <a:off x="4876920" y="1295280"/>
            <a:ext cx="391464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ttp://wps.prenhall.com/wps/media/objects/489/501016/CDA45_1.jpg"/>
          <p:cNvPicPr/>
          <p:nvPr/>
        </p:nvPicPr>
        <p:blipFill>
          <a:blip r:embed="rId2"/>
          <a:stretch/>
        </p:blipFill>
        <p:spPr>
          <a:xfrm>
            <a:off x="5715000" y="3809880"/>
            <a:ext cx="23814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al: To create a GENETICALLY IDENTICAL copy of a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ntire genome is dupli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ytoplasm is partitioned “equall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cell becomes 2 cells, 2 cells become 4 cell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ing the Du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: There is a lot of DNA and mistakes can be detrimental. No room for error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is like many balls of yarn all placed in the same bask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NA must be first organized before it can be copi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NA 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omatin: All of an organism’s DNA in an uncondensed, loose m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en during times of normal functions, no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ing divis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http://micro.magnet.fsu.edu/cells/nucleus/images/chromatinstructurefigure1.jpg"/>
          <p:cNvPicPr/>
          <p:nvPr/>
        </p:nvPicPr>
        <p:blipFill>
          <a:blip r:embed="rId1"/>
          <a:stretch/>
        </p:blipFill>
        <p:spPr>
          <a:xfrm>
            <a:off x="1981080" y="3657600"/>
            <a:ext cx="49053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NA 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omosomes: All of an organism’s DNA in condensed, tight bunch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en during times of cell divi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ntromere: Area where a chromosome is constricted. Location that chromatids attach to each o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 Division Termi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words can be confusing, be sure to know the difference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romosom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ensed DNA before dupl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ensed DNA after duplication &amp; also after separation by mito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romatid (sister chromatid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lf of a duplicated chromos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duplicated chromosome has 2 chromat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ell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 CYCLE: Knowing where in the cycle a cell is helps for remembering what comes next and what is required for it to happ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phase: Growth, DNA synthesis, 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totic phase (M pha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tosis: Partitioning of DNA into each c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ytokinesis: Division of cytopla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8:09:48Z</dcterms:created>
  <dc:creator>leanne</dc:creator>
  <dc:description/>
  <dc:language>en-US</dc:language>
  <cp:lastModifiedBy>NASD</cp:lastModifiedBy>
  <dcterms:modified xsi:type="dcterms:W3CDTF">2009-01-22T13:23:47Z</dcterms:modified>
  <cp:revision>28</cp:revision>
  <dc:subject/>
  <dc:title>Slide 1</dc:title>
</cp:coreProperties>
</file>